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%D8%B3%D8%AD%D9%91%D8%A7%D8%A82.wav" ContentType="audio/x-wav"/>
  <Override PartName="/ppt/media/GUN.WAV" ContentType="audio/x-wav"/>
  <Override PartName="/ppt/media/RICOCHE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745-1942-4F57-94CA-17E179F4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106-6E05-4A25-BBD3-3635EF51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FA2-8648-426A-BCCC-FAC35665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55D-D9A6-4113-963A-DA53C87B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DF1-D065-4870-8209-9D47B611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C9D-A5B7-47DB-BD19-847B1F68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4F6-2996-417B-A463-D5B115B7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B56-FD9C-45F6-B0AB-B9E1955E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9BA-C7AB-460E-A376-07156A1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A6B-72E2-44FB-82DC-B72FDDE5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5AE-221C-44BB-8247-703BA827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BA9-5604-4E76-A834-EE19A65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D6549D-4EB2-4395-8D5E-C81A62E681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GUN.WAV"/><Relationship Id="rId7" Type="http://schemas.openxmlformats.org/officeDocument/2006/relationships/audio" Target="../media/RICOCHET.WAV"/><Relationship Id="rId8" Type="http://schemas.openxmlformats.org/officeDocument/2006/relationships/audio" Target="../media/GUN.WAV"/><Relationship Id="rId9" Type="http://schemas.openxmlformats.org/officeDocument/2006/relationships/audio" Target="../media/RICOCHET.WAV"/><Relationship Id="rId10" Type="http://schemas.openxmlformats.org/officeDocument/2006/relationships/audio" Target="../media/GU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15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7086600" cy="109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حركة وتنسي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2681280"/>
            <a:ext cx="3351240" cy="120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267080"/>
            <a:ext cx="7086600" cy="10980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b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كتب هن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0" y="5573880"/>
            <a:ext cx="3566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01:51Z</dcterms:modified>
  <cp:revision>26</cp:revision>
  <dc:subject/>
  <dc:title>No Slide Title</dc:title>
</cp:coreProperties>
</file>