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%D8%B3%D8%AD%D9%91%D8%A7%D8%A82.wav" ContentType="audio/x-wav"/>
  <Override PartName="/ppt/media/GUN.WAV" ContentType="audio/x-wav"/>
  <Override PartName="/ppt/media/RICOCHE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074-D5D4-4EB1-A757-4C6FE4A9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8BF-BE4C-4911-954B-30BAF936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F96-3477-4776-AFC9-77289F1D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40F-71A6-40C8-BCA2-01F0D7EA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B26-9730-4DDF-B93E-173C8B31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E1D-6C11-447C-BB4A-EC7D2302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FC1-4482-4AA0-A9E6-06580569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E25-4F37-41D2-90B8-AE441EF4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F0E-4798-4100-ABA5-957427F4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0A0-2AE1-477F-8EEF-DEEE0C8E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A2B-1CC3-47CA-82F3-627AFA88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CDE-475F-4C6A-A622-25D12666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A688B8-9993-43F1-AC7D-EF0D00EBC4B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audio" Target="../media/&#1587;&#1581;&#1617;&#1575;&#1576;2.wav"/><Relationship Id="rId6" Type="http://schemas.openxmlformats.org/officeDocument/2006/relationships/audio" Target="../media/GUN.WAV"/><Relationship Id="rId7" Type="http://schemas.openxmlformats.org/officeDocument/2006/relationships/audio" Target="../media/RICOCHET.WAV"/><Relationship Id="rId8" Type="http://schemas.openxmlformats.org/officeDocument/2006/relationships/audio" Target="../media/GUN.WAV"/><Relationship Id="rId9" Type="http://schemas.openxmlformats.org/officeDocument/2006/relationships/audio" Target="../media/RICOCHET.WAV"/><Relationship Id="rId10" Type="http://schemas.openxmlformats.org/officeDocument/2006/relationships/audio" Target="../media/GUN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15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7086600" cy="109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حركة وتنسي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1320" y="2681280"/>
            <a:ext cx="3351240" cy="120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267080"/>
            <a:ext cx="7086600" cy="10980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b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كتب هن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0" y="5573880"/>
            <a:ext cx="3566880" cy="128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%D8%B3%D8%AD%D9%91%D8%A7%D8%A8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عادل باحداد</dc:creator>
  <dc:description/>
  <dc:language>en-US</dc:language>
  <cp:lastModifiedBy>nour3iny</cp:lastModifiedBy>
  <dcterms:modified xsi:type="dcterms:W3CDTF">2010-01-02T15:01:51Z</dcterms:modified>
  <cp:revision>26</cp:revision>
  <dc:subject/>
  <dc:title>No Slide Title</dc:title>
</cp:coreProperties>
</file>