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%D8%B3%D8%AD%D9%91%D8%A7%D8%A82.wav" ContentType="audio/x-wav"/>
  <Override PartName="/ppt/media/GUN.WAV" ContentType="audio/x-wav"/>
  <Override PartName="/ppt/media/RICOCHET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7859-BB28-4D29-A773-514BB228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1E6A-FE86-4D80-8FDD-3C70D0DF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B111-2339-49F6-AA14-D9A1DB45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FD5D-0F9B-47C9-95F8-A6891DDC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958E-FF00-4981-854E-0EF32056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0308-BE1F-4A6C-8047-7AB9B35E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E7F7-0554-4F2D-B1F4-A497410C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B5CF-A6AA-4E48-BDC4-038CD0AA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7C18-4326-4205-87EA-40CA7F70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BAAD-4AED-4FDA-AE43-CD25A8E7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80E9-DD20-463A-9607-A8C3AAFC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DA27-98EA-4ECC-83A4-5CAA3DFA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7EE470A-1A64-4429-90EC-FBEFA923785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audio" Target="../media/&#1587;&#1581;&#1617;&#1575;&#1576;2.wav"/><Relationship Id="rId6" Type="http://schemas.openxmlformats.org/officeDocument/2006/relationships/audio" Target="../media/GUN.WAV"/><Relationship Id="rId7" Type="http://schemas.openxmlformats.org/officeDocument/2006/relationships/audio" Target="../media/RICOCHET.WAV"/><Relationship Id="rId8" Type="http://schemas.openxmlformats.org/officeDocument/2006/relationships/audio" Target="../media/GUN.WAV"/><Relationship Id="rId9" Type="http://schemas.openxmlformats.org/officeDocument/2006/relationships/audio" Target="../media/RICOCHET.WAV"/><Relationship Id="rId10" Type="http://schemas.openxmlformats.org/officeDocument/2006/relationships/audio" Target="../media/GUN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00400" cy="1150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1295280"/>
            <a:ext cx="7086600" cy="109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حركة وتنسيق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791320" y="2681280"/>
            <a:ext cx="3351240" cy="120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4267080"/>
            <a:ext cx="7086600" cy="1098000"/>
          </a:xfrm>
          <a:prstGeom prst="rect">
            <a:avLst/>
          </a:prstGeom>
          <a:gradFill rotWithShape="0">
            <a:gsLst>
              <a:gs pos="0">
                <a:srgbClr val="ff0033"/>
              </a:gs>
              <a:gs pos="100000">
                <a:srgbClr val="b100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اكتب هنا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4400" y="5573880"/>
            <a:ext cx="3566880" cy="1282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5" name="%D8%B3%D8%AD%D9%91%D8%A7%D8%A8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10T05:35:38Z</dcterms:created>
  <dc:creator>عادل باحداد</dc:creator>
  <dc:description/>
  <dc:language>en-US</dc:language>
  <cp:lastModifiedBy>nour3iny</cp:lastModifiedBy>
  <dcterms:modified xsi:type="dcterms:W3CDTF">2010-01-02T15:01:51Z</dcterms:modified>
  <cp:revision>26</cp:revision>
  <dc:subject/>
  <dc:title>No Slide Title</dc:title>
</cp:coreProperties>
</file>