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%D8%B3%D8%AD%D9%91%D8%A7%D8%A82.wav" ContentType="audio/x-wav"/>
  <Override PartName="/ppt/media/GUN.WAV" ContentType="audio/x-wav"/>
  <Override PartName="/ppt/media/RICOCHE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D29-ED75-4D21-8D70-EA53E9E2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C4B-ECB2-4146-98F9-341E4659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2EA-5BD1-418B-9372-10134501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789-A09A-4BC8-8011-9993AA08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299-583E-440E-BD6C-AFFF4403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08A-7270-4A71-9911-180EE163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E89-D57B-42A3-BD26-8099704C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9EF-9FB1-47B3-B55D-D52FBE8B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A82-8B41-40E7-8E26-17B857EF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A51-0791-4F30-A3AF-78FE217A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430-EA27-4D5C-B310-E6BB51D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CFA-598C-4F67-B3BE-86D4F572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F1F453-5472-49E9-AF7A-115BBA19633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audio" Target="../media/&#1587;&#1581;&#1617;&#1575;&#1576;2.wav"/><Relationship Id="rId6" Type="http://schemas.openxmlformats.org/officeDocument/2006/relationships/audio" Target="../media/GUN.WAV"/><Relationship Id="rId7" Type="http://schemas.openxmlformats.org/officeDocument/2006/relationships/audio" Target="../media/RICOCHET.WAV"/><Relationship Id="rId8" Type="http://schemas.openxmlformats.org/officeDocument/2006/relationships/audio" Target="../media/GUN.WAV"/><Relationship Id="rId9" Type="http://schemas.openxmlformats.org/officeDocument/2006/relationships/audio" Target="../media/RICOCHET.WAV"/><Relationship Id="rId10" Type="http://schemas.openxmlformats.org/officeDocument/2006/relationships/audio" Target="../media/GUN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15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7086600" cy="109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حركة وتنسي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1320" y="2681280"/>
            <a:ext cx="3351240" cy="120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267080"/>
            <a:ext cx="7086600" cy="10980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b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كتب هن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0" y="5573880"/>
            <a:ext cx="3566880" cy="128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%D8%B3%D8%AD%D9%91%D8%A7%D8%A8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عادل باحداد</dc:creator>
  <dc:description/>
  <dc:language>en-US</dc:language>
  <cp:lastModifiedBy>nour3iny</cp:lastModifiedBy>
  <dcterms:modified xsi:type="dcterms:W3CDTF">2010-01-02T15:01:51Z</dcterms:modified>
  <cp:revision>26</cp:revision>
  <dc:subject/>
  <dc:title>No Slide Title</dc:title>
</cp:coreProperties>
</file>