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%D8%A7%D8%B1%D8%AA%D9%81%D8%A7%D8%B92.wav" ContentType="audio/x-wav"/>
  <Override PartName="/ppt/media/image4.wmf" ContentType="image/x-wmf"/>
  <Override PartName="/ppt/media/%D8%B3%D8%AD%D9%91%D8%A7%D8%A82.wav" ContentType="audio/x-wav"/>
  <Override PartName="/ppt/media/PROJCTOR.WAV" ContentType="audio/x-wav"/>
  <Override PartName="/ppt/media/GLASS.WAV" ContentType="audio/x-wav"/>
  <Override PartName="/ppt/media/GU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C91-93BC-4B4D-9D70-2E231957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515-C611-41A5-971E-D8F7DE05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B43-415F-4054-8981-E7249D7F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696-A1B4-425B-B683-F6D03052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E48-83B3-4AC1-891F-9A44F99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8B1-2EDB-41C8-8BD7-4016D65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146-13EE-47BF-9E63-FFE27FC3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BA8-8EDF-4AAA-8A0E-E72F7F5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4E7-0BD1-41F2-9CFC-A623443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E26-94C5-47CE-827F-5E2AB18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6F8-2583-402B-9D9E-9F6B454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21E-B84B-4017-BC9A-09C45BD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114E2F-4D58-4991-89FD-87B025483B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PROJCTOR.WAV"/><Relationship Id="rId7" Type="http://schemas.openxmlformats.org/officeDocument/2006/relationships/audio" Target="../media/GLASS.WAV"/><Relationship Id="rId8" Type="http://schemas.openxmlformats.org/officeDocument/2006/relationships/audio" Target="../media/&#1575;&#1585;&#1578;&#1601;&#1575;&#1593;2.wav"/><Relationship Id="rId9" Type="http://schemas.openxmlformats.org/officeDocument/2006/relationships/audio" Target="../media/GUN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67080" cy="2197080"/>
            <a:chOff x="0" y="0"/>
            <a:chExt cx="4267080" cy="2197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133720" y="0"/>
              <a:ext cx="2133360" cy="21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37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914400" y="2286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46000" y="3352680"/>
            <a:ext cx="1987560" cy="350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911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8%A7%D8%B1%D8%AA%D9%81%D8%A7%D8%B9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48:12Z</dcterms:modified>
  <cp:revision>26</cp:revision>
  <dc:subject/>
  <dc:title>No Slide Title</dc:title>
</cp:coreProperties>
</file>