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%D8%A7%D8%B1%D8%AA%D9%81%D8%A7%D8%B92.wav" ContentType="audio/x-wav"/>
  <Override PartName="/ppt/media/image4.wmf" ContentType="image/x-wmf"/>
  <Override PartName="/ppt/media/%D8%B3%D8%AD%D9%91%D8%A7%D8%A82.wav" ContentType="audio/x-wav"/>
  <Override PartName="/ppt/media/PROJCTOR.WAV" ContentType="audio/x-wav"/>
  <Override PartName="/ppt/media/GLASS.WAV" ContentType="audio/x-wav"/>
  <Override PartName="/ppt/media/GU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44E-E18B-464C-8666-F65D68DF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6DB-68BA-4631-93C8-F7FB0DF9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E5B6-460C-4515-B1B5-EB814C62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5966-C6FA-4F9D-8D8B-FF78DA2D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458-7859-492B-9BBC-1E203A09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BC78-6B45-4675-9FE9-2C9725FA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638-EB22-448F-9A25-B29BFF89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399-4204-4320-97D3-36BFBA04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F0C6-2664-4D4E-A6D1-6A21B981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BB5C-7FC8-4BF9-8626-11FB33AC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A99-204E-4FBF-9680-27ACFDC2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94D-37D9-4253-8793-F50E87FC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4E0B6C9-493A-4CFA-950C-813F437EA33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audio" Target="../media/&#1587;&#1581;&#1617;&#1575;&#1576;2.wav"/><Relationship Id="rId6" Type="http://schemas.openxmlformats.org/officeDocument/2006/relationships/audio" Target="../media/PROJCTOR.WAV"/><Relationship Id="rId7" Type="http://schemas.openxmlformats.org/officeDocument/2006/relationships/audio" Target="../media/GLASS.WAV"/><Relationship Id="rId8" Type="http://schemas.openxmlformats.org/officeDocument/2006/relationships/audio" Target="../media/&#1575;&#1585;&#1578;&#1601;&#1575;&#1593;2.wav"/><Relationship Id="rId9" Type="http://schemas.openxmlformats.org/officeDocument/2006/relationships/audio" Target="../media/GUN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4267080" cy="2197080"/>
            <a:chOff x="0" y="0"/>
            <a:chExt cx="4267080" cy="219708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2133720" y="0"/>
              <a:ext cx="2133360" cy="21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3720" cy="219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914400" y="2286000"/>
            <a:ext cx="228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الب 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46000" y="3352680"/>
            <a:ext cx="1987560" cy="3503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91120" y="3581280"/>
            <a:ext cx="441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الب 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5" name="%D8%B3%D8%AD%D9%91%D8%A7%D8%A8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8%A7%D8%B1%D8%AA%D9%81%D8%A7%D8%B9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75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05:35:38Z</dcterms:created>
  <dc:creator>عادل باحداد</dc:creator>
  <dc:description/>
  <dc:language>en-US</dc:language>
  <cp:lastModifiedBy>nour3iny</cp:lastModifiedBy>
  <dcterms:modified xsi:type="dcterms:W3CDTF">2010-01-02T15:48:12Z</dcterms:modified>
  <cp:revision>26</cp:revision>
  <dc:subject/>
  <dc:title>No Slide Title</dc:title>
</cp:coreProperties>
</file>